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9FCB-2382-4435-B932-8BA2B98AD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F5FA-7EDE-4351-B2D3-5331E5EA5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C24D-245A-4E33-9E0A-C8474BC4D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91BD-E067-44F0-9725-4B41D3595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10EEE-25F3-405D-B4F6-ED42C88BC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BF945-C02C-47C4-B414-B561210DF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7924E-06E0-489D-BBAE-5E14C9A73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ABFE2-C1D0-4ADB-AB1B-D44D55E8F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0D0DD-338D-430D-91F8-A0BB1C8E6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23150-F153-4AF5-8C1D-152AE282B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24A5B-21CB-44EF-A975-C53959522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10FA-037A-4090-9F56-64E005FD1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66210-D176-408F-8B77-D93D68467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7DA9A-42C8-4C04-9F30-57505F03F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8C000-0DE4-44B1-9659-5810E78F8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9C2CA-03FF-4846-9387-EC7EA56AE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06ED9-E219-45F6-99DC-52EE37EC6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5B857-9AA9-4CA1-AF23-E2E4CCF29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D6B49-73C0-46F1-A577-20FD3CB60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FCE1C-CEAA-482B-8A2C-42C9D866C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F8721-2D0B-4E91-BF6E-F7A68FD1A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D0398-FEEB-4EE3-937D-17E526B7B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A752-D66E-476C-AD6A-B91718239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1AE31-B64F-4F49-9728-92D19F6B0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FA5DF-ACCC-46A5-8049-C7C4CD8A1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68EE2-399A-4C5D-87CC-E8E312DC8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4537D-6136-4FFA-A79A-6964BEE86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D7B89-0A7D-4311-A55B-53CBFEB8A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0B5BB-4999-4798-BF8F-3B3538377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80F9A-5086-4C0C-83D7-B4BA05C9C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DA1FB-08B3-4CBD-A0A1-F2BE32AA9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79565-0465-4EA3-830C-06B758A3E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74D74-EAD6-485C-85DD-A63643E04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69C4-C4C3-401E-8578-97A8DD9B7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030AC-0CF6-417C-9603-8615E09E1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580208-EF0C-4917-A31B-AB8880304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DB03D-2165-4192-B587-DD6441394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95290-EAF2-4974-B063-B7E43A915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F0B07-34BD-4A0A-BBC4-9DA296386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5D341-C1B7-44BB-8A84-ED5750D1E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28D24-8B21-4348-869C-F60ECEA09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90C0A-C450-48A2-9A7A-06E84B9C0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1B581-45DF-4682-A0E8-0C14A4CBD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2A7B26-63DB-460F-A125-B290217C0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A735-842A-4951-AE89-E568D9035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888F5E-25AF-41F7-9650-2E8B96040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116004-0D7B-4ACE-8E20-99C3C6359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1D5F5E-61C8-4C7C-A307-083890C93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EAE962-98E3-46D3-87BC-42FDC79A9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57D996-10AE-49CE-8662-41A746ECC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832FC3-6EE0-42EB-BC90-CFC760E71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B47CFB-7CFA-4D5C-8CA8-B101DAADC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F3533C-7DFD-4A3D-9CF8-EE9A5C0A6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8C1A67-547C-48B0-8543-5F5521EC7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AC77CF-C525-4172-97E7-22082827B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F388-6563-43A4-9147-A82EE69BF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E59B4E-DCB2-4F48-B60B-3E0999AB8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70AD78-FD2D-4D34-AA1D-E30681A79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805668-31B4-4B87-BC12-9C39179A3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AF611A-F81D-4C79-BE4B-73E08792E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CE5A11-EE6F-4F47-943D-5946224B0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BBB574-9515-4D3F-877C-A3B8506F7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E7144F-321B-42C2-B2D1-DD938C0A1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BF6CD4-3F43-41CA-9C47-2BF15C9FF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CC0839-128D-4FF6-8D7D-9D890D443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65005B-6BFA-4AAF-BCBA-B3631A3AA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44E9-C1A4-4FC6-95F0-3E159DD7A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A14B06-6BA1-4824-AF23-949A90E08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8F0799-76C5-485B-9698-4EC3DA94A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68A377-E2E1-402E-9E75-349EA1C58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EF6682-914D-4155-92FA-BA6676E19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B335F6-3EF5-462B-A876-878C188FE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8D70D2-7A60-4873-9668-852788B49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C35E29-2617-4568-8B5A-82D0E51D6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5D8042-03CD-400D-A4DB-AB30AF16C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D5DDBD-03DE-4B4F-A4B5-89228EA2C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C4087B-9C55-48C0-9F71-F2B4C54D1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85F7-5DC2-45E5-8E3E-4E69585C6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D0D652-3E0C-4689-AA6B-334063711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EBDC54-82F6-4AC6-9A3B-6DC5FDCB1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E017CA-2B20-4F54-8241-D3AA759AF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03334F-CE17-4516-8C4B-6A6C365DE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162CED-400A-491E-9737-6CC3220D3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5D32-7AF4-44EA-A0F1-5D9D70C1F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220E5-B35E-456E-96C0-0A3478ACEC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EB569-3414-4AB9-A73C-F906840D5DF3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06A0F-D6DB-4704-A0D7-2F5FBF6D13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2CDAF-2986-43C3-B06B-54BDBD864B2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ADC48-E706-4C08-A2C0-27075A7642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1B33F-549E-4DBE-A1CE-B46F15AB25A2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059F7-1CCB-498D-9A22-8101D55BBC50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Rectangle 3" descr=""/>
          <p:cNvPicPr/>
          <p:nvPr/>
        </p:nvPicPr>
        <p:blipFill>
          <a:blip r:embed="rId1"/>
          <a:stretch/>
        </p:blipFill>
        <p:spPr>
          <a:xfrm>
            <a:off x="5175360" y="5479920"/>
            <a:ext cx="3060720" cy="774720"/>
          </a:xfrm>
          <a:prstGeom prst="rect">
            <a:avLst/>
          </a:prstGeom>
          <a:ln w="0">
            <a:noFill/>
          </a:ln>
        </p:spPr>
      </p:pic>
      <p:sp>
        <p:nvSpPr>
          <p:cNvPr id="302" name="WordArt 4"/>
          <p:cNvSpPr txBox="1"/>
          <p:nvPr/>
        </p:nvSpPr>
        <p:spPr>
          <a:xfrm>
            <a:off x="228600" y="838080"/>
            <a:ext cx="868680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5698"/>
                </a:solidFill>
                <a:latin typeface="Cooper Black"/>
              </a:rPr>
              <a:t>Physical Scienc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5698"/>
              </a:solidFill>
              <a:latin typeface="Cooper Black"/>
              <a:ea typeface="Cooper Black"/>
            </a:endParaRPr>
          </a:p>
        </p:txBody>
      </p:sp>
      <p:sp>
        <p:nvSpPr>
          <p:cNvPr id="303" name="Rectangle 15"/>
          <p:cNvSpPr/>
          <p:nvPr/>
        </p:nvSpPr>
        <p:spPr>
          <a:xfrm>
            <a:off x="121932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L. LaRosa  http://www.middleschoolscience.com  for T. Trimpe 2008   http://sciencespot.net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Picture 16" descr="scistartlogo2"/>
          <p:cNvPicPr/>
          <p:nvPr/>
        </p:nvPicPr>
        <p:blipFill>
          <a:blip r:embed="rId2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305" name="WordArt 17"/>
          <p:cNvSpPr txBox="1"/>
          <p:nvPr/>
        </p:nvSpPr>
        <p:spPr>
          <a:xfrm>
            <a:off x="4114800" y="3200400"/>
            <a:ext cx="44956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oper Black"/>
              </a:rPr>
              <a:t>Length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oper Black"/>
              <a:ea typeface="Cooper Black"/>
            </a:endParaRPr>
          </a:p>
        </p:txBody>
      </p:sp>
      <p:pic>
        <p:nvPicPr>
          <p:cNvPr id="306" name="Picture 8" descr="C:\Documents and Settings\Liz\Local Settings\Temporary Internet Files\Content.IE5\1F1XIRIX\MCj02327230000[1].wmf"/>
          <p:cNvPicPr/>
          <p:nvPr/>
        </p:nvPicPr>
        <p:blipFill>
          <a:blip r:embed="rId3"/>
          <a:stretch/>
        </p:blipFill>
        <p:spPr>
          <a:xfrm>
            <a:off x="228600" y="4191120"/>
            <a:ext cx="3616200" cy="19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Box 2"/>
          <p:cNvSpPr/>
          <p:nvPr/>
        </p:nvSpPr>
        <p:spPr>
          <a:xfrm>
            <a:off x="457200" y="8380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plete the following conversion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TextBox 8"/>
          <p:cNvSpPr/>
          <p:nvPr/>
        </p:nvSpPr>
        <p:spPr>
          <a:xfrm>
            <a:off x="609480" y="2438280"/>
            <a:ext cx="3581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ndy"/>
              </a:rPr>
              <a:t>3 cm = _____ m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ndy"/>
              </a:rPr>
              <a:t>15 cm = ____ m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ndy"/>
              </a:rPr>
              <a:t>49 cm = ____ m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ndy"/>
              </a:rPr>
              <a:t>103 cm = ____ m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Box 9"/>
          <p:cNvSpPr/>
          <p:nvPr/>
        </p:nvSpPr>
        <p:spPr>
          <a:xfrm>
            <a:off x="4952880" y="2514600"/>
            <a:ext cx="3581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ndy"/>
              </a:rPr>
              <a:t>5 mm = _____ c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ndy"/>
              </a:rPr>
              <a:t>19 mm = ____ c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ndy"/>
              </a:rPr>
              <a:t>74 mm = ____ c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ndy"/>
              </a:rPr>
              <a:t>158 mm = ____ c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Box 2"/>
          <p:cNvSpPr/>
          <p:nvPr/>
        </p:nvSpPr>
        <p:spPr>
          <a:xfrm>
            <a:off x="457200" y="8380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plete the following conversion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Box 8"/>
          <p:cNvSpPr/>
          <p:nvPr/>
        </p:nvSpPr>
        <p:spPr>
          <a:xfrm>
            <a:off x="609480" y="1905120"/>
            <a:ext cx="358164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ndy"/>
              </a:rPr>
              <a:t>3 cm = </a:t>
            </a:r>
            <a:r>
              <a:rPr b="0" lang="en-US" sz="4400" spc="-1" strike="noStrike">
                <a:solidFill>
                  <a:srgbClr val="ffafd1"/>
                </a:solidFill>
                <a:latin typeface="Andy"/>
              </a:rPr>
              <a:t>30</a:t>
            </a:r>
            <a:r>
              <a:rPr b="0" lang="en-US" sz="2800" spc="-1" strike="noStrike">
                <a:solidFill>
                  <a:srgbClr val="ffffff"/>
                </a:solidFill>
                <a:latin typeface="Andy"/>
              </a:rPr>
              <a:t> m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ndy"/>
              </a:rPr>
              <a:t>15 cm = </a:t>
            </a:r>
            <a:r>
              <a:rPr b="0" lang="en-US" sz="4400" spc="-1" strike="noStrike">
                <a:solidFill>
                  <a:srgbClr val="ffafd1"/>
                </a:solidFill>
                <a:latin typeface="Andy"/>
              </a:rPr>
              <a:t>150</a:t>
            </a:r>
            <a:r>
              <a:rPr b="0" lang="en-US" sz="2800" spc="-1" strike="noStrike">
                <a:solidFill>
                  <a:srgbClr val="ffffff"/>
                </a:solidFill>
                <a:latin typeface="Andy"/>
              </a:rPr>
              <a:t> m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ndy"/>
              </a:rPr>
              <a:t>49 cm = </a:t>
            </a:r>
            <a:r>
              <a:rPr b="0" lang="en-US" sz="4400" spc="-1" strike="noStrike">
                <a:solidFill>
                  <a:srgbClr val="ffafd1"/>
                </a:solidFill>
                <a:latin typeface="Andy"/>
              </a:rPr>
              <a:t>490</a:t>
            </a:r>
            <a:r>
              <a:rPr b="0" lang="en-US" sz="2800" spc="-1" strike="noStrike">
                <a:solidFill>
                  <a:srgbClr val="ffffff"/>
                </a:solidFill>
                <a:latin typeface="Andy"/>
              </a:rPr>
              <a:t> m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ndy"/>
              </a:rPr>
              <a:t>103 cm = </a:t>
            </a:r>
            <a:r>
              <a:rPr b="0" lang="en-US" sz="4400" spc="-1" strike="noStrike">
                <a:solidFill>
                  <a:srgbClr val="ffafd1"/>
                </a:solidFill>
                <a:latin typeface="Andy"/>
              </a:rPr>
              <a:t>1,030</a:t>
            </a:r>
            <a:r>
              <a:rPr b="0" lang="en-US" sz="2800" spc="-1" strike="noStrike">
                <a:solidFill>
                  <a:srgbClr val="ffffff"/>
                </a:solidFill>
                <a:latin typeface="Andy"/>
              </a:rPr>
              <a:t> m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Box 9"/>
          <p:cNvSpPr/>
          <p:nvPr/>
        </p:nvSpPr>
        <p:spPr>
          <a:xfrm>
            <a:off x="4952880" y="1828800"/>
            <a:ext cx="358164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ndy"/>
              </a:rPr>
              <a:t>5 mm = </a:t>
            </a:r>
            <a:r>
              <a:rPr b="0" lang="en-US" sz="4400" spc="-1" strike="noStrike">
                <a:solidFill>
                  <a:srgbClr val="ffafd1"/>
                </a:solidFill>
                <a:latin typeface="Andy"/>
              </a:rPr>
              <a:t>0.5</a:t>
            </a:r>
            <a:r>
              <a:rPr b="0" lang="en-US" sz="2800" spc="-1" strike="noStrike">
                <a:solidFill>
                  <a:srgbClr val="ffffff"/>
                </a:solidFill>
                <a:latin typeface="Andy"/>
              </a:rPr>
              <a:t> c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ndy"/>
              </a:rPr>
              <a:t>19 mm = </a:t>
            </a:r>
            <a:r>
              <a:rPr b="0" lang="en-US" sz="4400" spc="-1" strike="noStrike">
                <a:solidFill>
                  <a:srgbClr val="ffafd1"/>
                </a:solidFill>
                <a:latin typeface="Andy"/>
              </a:rPr>
              <a:t>1.9</a:t>
            </a:r>
            <a:r>
              <a:rPr b="0" lang="en-US" sz="2800" spc="-1" strike="noStrike">
                <a:solidFill>
                  <a:srgbClr val="ffffff"/>
                </a:solidFill>
                <a:latin typeface="Andy"/>
              </a:rPr>
              <a:t> c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ndy"/>
              </a:rPr>
              <a:t>74 mm = </a:t>
            </a:r>
            <a:r>
              <a:rPr b="0" lang="en-US" sz="4400" spc="-1" strike="noStrike">
                <a:solidFill>
                  <a:srgbClr val="ffafd1"/>
                </a:solidFill>
                <a:latin typeface="Andy"/>
              </a:rPr>
              <a:t>7.4</a:t>
            </a:r>
            <a:r>
              <a:rPr b="0" lang="en-US" sz="2800" spc="-1" strike="noStrike">
                <a:solidFill>
                  <a:srgbClr val="ffffff"/>
                </a:solidFill>
                <a:latin typeface="Andy"/>
              </a:rPr>
              <a:t> c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ndy"/>
              </a:rPr>
              <a:t>158 mm = </a:t>
            </a:r>
            <a:r>
              <a:rPr b="0" lang="en-US" sz="4400" spc="-1" strike="noStrike">
                <a:solidFill>
                  <a:srgbClr val="ffafd1"/>
                </a:solidFill>
                <a:latin typeface="Andy"/>
              </a:rPr>
              <a:t>15.8 </a:t>
            </a:r>
            <a:r>
              <a:rPr b="0" lang="en-US" sz="2800" spc="-1" strike="noStrike">
                <a:solidFill>
                  <a:srgbClr val="ffffff"/>
                </a:solidFill>
                <a:latin typeface="Andy"/>
              </a:rPr>
              <a:t>c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Box 4"/>
          <p:cNvSpPr/>
          <p:nvPr/>
        </p:nvSpPr>
        <p:spPr>
          <a:xfrm>
            <a:off x="1371600" y="594360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ndy"/>
              </a:rPr>
              <a:t>X 1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Box 5"/>
          <p:cNvSpPr/>
          <p:nvPr/>
        </p:nvSpPr>
        <p:spPr>
          <a:xfrm>
            <a:off x="5715000" y="594360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ndy"/>
              </a:rPr>
              <a:t>÷ 1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4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4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4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4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00:06:52Z</dcterms:created>
  <dc:creator>Liz LaRosa</dc:creator>
  <dc:description/>
  <dc:language>en-US</dc:language>
  <cp:lastModifiedBy>Liz</cp:lastModifiedBy>
  <dcterms:modified xsi:type="dcterms:W3CDTF">2008-07-05T20:29:47Z</dcterms:modified>
  <cp:revision>126</cp:revision>
  <dc:subject/>
  <dc:title>Slide 1</dc:title>
</cp:coreProperties>
</file>